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F8DA7-2B0F-4E51-A9B9-F09B65F00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2C9E0-367E-4AFF-B44E-AE810A483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ABCFC-2E76-45F7-8F98-669340CB3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37AE6-5B51-4287-8D0C-183443870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1F2B0B-61BD-425C-B4D5-E932A2165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6FF77-A631-457D-A8E2-A6ED0FAC5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30A5E-1AB1-46D6-B62D-AE1876447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C9C43-3615-4787-8780-DA6B6091C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D3A39-7AE8-49CC-886D-E882487B4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23A2C-4240-4F1A-B5BB-E1E87900A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962F7-7489-43CD-89C0-C54899939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4B5FA-5C5F-4DA5-B3F6-33DABD07B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ED2C8-C19C-48B3-842E-D92309C89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96FB2-ED99-461E-94FF-8B5D783E4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ED961-95AD-4D6C-AFD8-88B27D653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82EB1-A0A5-4BAB-A75E-012BAF7BD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C443F-C121-47C5-BB1F-DB90B6E5E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C2525-5A93-4FE8-9C24-CAC47C88E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F1FFE-5996-4BC1-BF37-2344FD826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CB871-C5B2-43AA-BB44-0FD5A8F98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1D446-3676-4FB6-A57E-0184FAFBC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246BB-FD96-4678-8095-E8264B5BE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E2AC0-0D30-4560-89C7-329C96C4F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72211-DC47-4BDA-BE07-6FEC18079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9CB6-99C7-4543-AFD3-79F708D5960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A3C2-B23B-4207-945E-14601A5DF8E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multimediatechnology.wikispaces.com/" TargetMode="External"/><Relationship Id="rId2" Type="http://schemas.openxmlformats.org/officeDocument/2006/relationships/hyperlink" Target="http://multimediatechnology.wikispaces.com/" TargetMode="External"/><Relationship Id="rId3" Type="http://schemas.openxmlformats.org/officeDocument/2006/relationships/hyperlink" Target="http://multimediatechnology.wikispaces.com/"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Brainstorming%20Template.doc" TargetMode="External"/><Relationship Id="rId2" Type="http://schemas.openxmlformats.org/officeDocument/2006/relationships/hyperlink" Target="file:///Brainstorming%20Template.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k12cellphoneprojects.wikispaces.com/"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multimediatechnology.wikispaces.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principlesofdistanceeducation.blogspot.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mywebspiration.com/view/336707a335d0"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05704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ell Phones as Educational Learning Tools</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99840" y="434304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media Learning at its bes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066320"/>
            <a:ext cx="769608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At this point please return to the Multimedia Workshop Wikispace </a:t>
            </a:r>
            <a:r>
              <a:rPr b="0" lang="en-US" sz="2700" spc="-1" strike="noStrike">
                <a:solidFill>
                  <a:srgbClr val="703dff"/>
                </a:solidFill>
                <a:latin typeface="Comic Sans MS"/>
              </a:rPr>
              <a:t>and </a:t>
            </a:r>
            <a:r>
              <a:rPr b="0" lang="en-US" sz="3200" spc="-1" strike="noStrike">
                <a:solidFill>
                  <a:srgbClr val="703dff"/>
                </a:solidFill>
                <a:latin typeface="Comic Sans MS"/>
              </a:rPr>
              <a:t>click on the tab Hour 1 Activity</a:t>
            </a:r>
            <a:endParaRPr b="0" lang="en-US" sz="3200" spc="-1" strike="noStrike">
              <a:solidFill>
                <a:srgbClr val="000000"/>
              </a:solidFill>
              <a:latin typeface="Comic Sans MS"/>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b200"/>
                </a:solidFill>
                <a:uFillTx/>
                <a:latin typeface="Comic Sans MS"/>
                <a:hlinkClick r:id="rId1"/>
              </a:rPr>
              <a:t>http://</a:t>
            </a:r>
            <a:r>
              <a:rPr b="0" lang="en-US" sz="2700" spc="-1" strike="noStrike" u="sng">
                <a:solidFill>
                  <a:srgbClr val="00b200"/>
                </a:solidFill>
                <a:uFillTx/>
                <a:latin typeface="Comic Sans MS"/>
                <a:hlinkClick r:id="rId2"/>
              </a:rPr>
              <a:t>multimediatechnology.wikispaces.com</a:t>
            </a:r>
            <a:r>
              <a:rPr b="0" lang="en-US" sz="2700" spc="-1" strike="noStrike" u="sng">
                <a:solidFill>
                  <a:srgbClr val="00b200"/>
                </a:solidFill>
                <a:uFillTx/>
                <a:latin typeface="Comic Sans MS"/>
                <a:hlinkClick r:id="rId3"/>
              </a:rPr>
              <a:t>/</a:t>
            </a:r>
            <a:br>
              <a:rPr sz="2700"/>
            </a:br>
            <a:endParaRPr b="0" lang="en-US" sz="2700" spc="-1" strike="noStrike">
              <a:solidFill>
                <a:srgbClr val="000000"/>
              </a:solidFill>
              <a:latin typeface="Comic Sans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057400"/>
            <a:ext cx="687096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our 2: </a:t>
            </a:r>
            <a:br>
              <a:rPr sz="4400"/>
            </a:br>
            <a:r>
              <a:rPr b="0" lang="en-US" sz="4400" spc="-1" strike="noStrike">
                <a:solidFill>
                  <a:srgbClr val="703dff"/>
                </a:solidFill>
                <a:latin typeface="Comic Sans MS"/>
              </a:rPr>
              <a:t>Incorporating Cell Phones into the Classroom</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52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Ways to Incorporate Cell Phones into your classroom</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676160"/>
            <a:ext cx="769608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section of the workshop I will introduce two possible resources for you to use with cell phones in your classroom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dio.com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leverywhere.co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60912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 Tutorials:</a:t>
            </a:r>
            <a:endParaRPr b="0" lang="en-US" sz="4400" spc="-1" strike="noStrike">
              <a:solidFill>
                <a:srgbClr val="000000"/>
              </a:solidFill>
              <a:latin typeface="Comic Sans MS"/>
            </a:endParaRPr>
          </a:p>
        </p:txBody>
      </p:sp>
      <p:sp>
        <p:nvSpPr>
          <p:cNvPr id="172" name="PlaceHolder 2"/>
          <p:cNvSpPr>
            <a:spLocks noGrp="1"/>
          </p:cNvSpPr>
          <p:nvPr>
            <p:ph/>
          </p:nvPr>
        </p:nvSpPr>
        <p:spPr>
          <a:xfrm>
            <a:off x="380520" y="2209320"/>
            <a:ext cx="8077320" cy="40388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e watch the Yodio.com and the Polleverywhere.com tutorial videos located on the workshop wikispace under the tab Hour 2 Activities.</a:t>
            </a: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ter you have watched the tutorials come back to this PowerPoint for your next step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eam</a:t>
            </a:r>
            <a:br>
              <a:rPr sz="4400"/>
            </a:br>
            <a:r>
              <a:rPr b="0" lang="en-US" sz="4400" spc="-1" strike="noStrike">
                <a:solidFill>
                  <a:srgbClr val="703dff"/>
                </a:solidFill>
                <a:latin typeface="Comic Sans MS"/>
              </a:rPr>
              <a:t>Brainstorming Session</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419112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your grade teams that you created based on the Hour 1 Discussion please brainstorm a list of at least five possibilities for both Yodio.com and Polleverywhere.com.  </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sure that the ideas that your team brainstorms could actually be used in your classroom because we will come back to them in Hour 3! </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ay choose to use the brainstorming template found here or under the Hour 2 tab. </a:t>
            </a:r>
            <a:r>
              <a:rPr b="0" lang="en-US" sz="2400" spc="-1" strike="noStrike" u="sng">
                <a:solidFill>
                  <a:srgbClr val="00b200"/>
                </a:solidFill>
                <a:uFillTx/>
                <a:latin typeface="Comic Sans MS"/>
                <a:hlinkClick r:id="rId1"/>
              </a:rPr>
              <a:t>Brainstorming </a:t>
            </a:r>
            <a:r>
              <a:rPr b="0" lang="en-US" sz="2400" spc="-1" strike="noStrike" u="sng">
                <a:solidFill>
                  <a:srgbClr val="00b200"/>
                </a:solidFill>
                <a:uFillTx/>
                <a:latin typeface="Comic Sans MS"/>
                <a:hlinkClick r:id="rId2"/>
              </a:rPr>
              <a:t>Template.doc</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deas for Brainstorming</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are struggling with coming up with ideas please visit the following website for great ideas on how to incorporate cell phones into your classroom!</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http://k12cellphoneprojects.wikispaces.com/</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so feel free to join this wiki and add your ides to the idea bank!</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360" y="2285640"/>
            <a:ext cx="687060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Hour 3: </a:t>
            </a:r>
            <a:br>
              <a:rPr sz="4000"/>
            </a:br>
            <a:r>
              <a:rPr b="0" lang="en-US" sz="4000" spc="-1" strike="noStrike">
                <a:solidFill>
                  <a:srgbClr val="703dff"/>
                </a:solidFill>
                <a:latin typeface="Comic Sans MS"/>
              </a:rPr>
              <a:t>Individual Creation of Authentic Assessment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reating a Cell Phone Friendly Lesson</a:t>
            </a: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440"/>
            <a:ext cx="7696080" cy="4343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xt two hours of this multimedia workshop have been designed to let you begin creating two cell phone friendly lessons with both Yodio.com and Polleverywhere.com.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your time to create your lessons while you still have my guided help.  If you experience any difficulties or have any questions please skype me at kkhetzel.  I will be online and I will be answering any and all questions in the order that I receive them.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PPY CREATING!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23619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our 5:</a:t>
            </a:r>
            <a:br>
              <a:rPr sz="4400"/>
            </a:br>
            <a:r>
              <a:rPr b="0" lang="en-US" sz="4400" spc="-1" strike="noStrike">
                <a:solidFill>
                  <a:srgbClr val="703dff"/>
                </a:solidFill>
                <a:latin typeface="Comic Sans MS"/>
              </a:rPr>
              <a:t>Sharing Your Creation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746748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Sharing Your Creations</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your team pages that you have created on the workshop please share and upload your creations so we can all see how you have used Yodio.com and Polleverywhere.com in your classrooms.  </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often the most helpful part of the workshop because this is when we are able to collaborate and share what you have created. You never know, what you created may fit into someone else’s classroom to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2437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Hour 1: </a:t>
            </a:r>
            <a:br>
              <a:rPr sz="4000"/>
            </a:br>
            <a:r>
              <a:rPr b="0" lang="en-US" sz="4000" spc="-1" strike="noStrike">
                <a:solidFill>
                  <a:srgbClr val="703dff"/>
                </a:solidFill>
                <a:latin typeface="Comic Sans MS"/>
              </a:rPr>
              <a:t>Introduction and Discussion</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orkshop Evaluation</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905120"/>
            <a:ext cx="7696080" cy="3581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Hour 5 tab under the discussion  area please fill out the workshop evaluatio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990720"/>
            <a:ext cx="769608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Thank you for attending this multimedia worksho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assidy Hetze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ntroduction:</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lcome to the Cell Phones as Educational Learning Tools Workshop!</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workshop you will create your own lesson with the cell phone as the focu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s:</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this workshop you will be using two main resourc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PowerPoint and</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ikispace </a:t>
            </a:r>
            <a:r>
              <a:rPr b="0" lang="en-US" sz="2000" spc="-1" strike="noStrike" u="sng">
                <a:solidFill>
                  <a:srgbClr val="00b200"/>
                </a:solidFill>
                <a:uFillTx/>
                <a:latin typeface="Comic Sans MS"/>
                <a:hlinkClick r:id="rId1"/>
              </a:rPr>
              <a:t>http://multimediatechnology.wikispaces.com/</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keep both open for easy acces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Topic:</a:t>
            </a:r>
            <a:r>
              <a:rPr b="1" lang="en-US" sz="2000" spc="-1" strike="noStrike">
                <a:solidFill>
                  <a:srgbClr val="000000"/>
                </a:solidFill>
                <a:latin typeface="Comic Sans MS"/>
              </a:rPr>
              <a:t> </a:t>
            </a:r>
            <a:br>
              <a:rPr sz="2000"/>
            </a:br>
            <a:r>
              <a:rPr b="0" lang="en-US" sz="2000" spc="-1" strike="noStrike">
                <a:solidFill>
                  <a:srgbClr val="000000"/>
                </a:solidFill>
                <a:latin typeface="Comic Sans MS"/>
              </a:rPr>
              <a:t>The Cell Phone: The Next Educational Innovation</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Population:</a:t>
            </a:r>
            <a:br>
              <a:rPr sz="2000"/>
            </a:br>
            <a:r>
              <a:rPr b="0" lang="en-US" sz="2000" spc="-1" strike="noStrike">
                <a:solidFill>
                  <a:srgbClr val="000000"/>
                </a:solidFill>
                <a:latin typeface="Comic Sans MS"/>
              </a:rPr>
              <a:t>This Multimedia workshop is designed for educators who are interested in taking the cell phone from distraction to educational learning tool. </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Outcomes:</a:t>
            </a:r>
            <a:r>
              <a:rPr b="1" lang="en-US" sz="2000" spc="-1" strike="noStrike">
                <a:solidFill>
                  <a:srgbClr val="000000"/>
                </a:solidFill>
                <a:latin typeface="Comic Sans MS"/>
              </a:rPr>
              <a:t> </a:t>
            </a:r>
            <a:br>
              <a:rPr sz="2000"/>
            </a:br>
            <a:r>
              <a:rPr b="0" lang="en-US" sz="2000" spc="-1" strike="noStrike">
                <a:solidFill>
                  <a:srgbClr val="000000"/>
                </a:solidFill>
                <a:latin typeface="Comic Sans MS"/>
              </a:rPr>
              <a:t>By the end of this course students will be able to:</a:t>
            </a:r>
            <a:br>
              <a:rPr sz="2000"/>
            </a:br>
            <a:r>
              <a:rPr b="0" lang="en-US" sz="2000" spc="-1" strike="noStrike">
                <a:solidFill>
                  <a:srgbClr val="000000"/>
                </a:solidFill>
                <a:latin typeface="Comic Sans MS"/>
              </a:rPr>
              <a:t>1. Use the cell phone in an educational setting.</a:t>
            </a:r>
            <a:br>
              <a:rPr sz="2000"/>
            </a:br>
            <a:r>
              <a:rPr b="0" lang="en-US" sz="2000" spc="-1" strike="noStrike">
                <a:solidFill>
                  <a:srgbClr val="000000"/>
                </a:solidFill>
                <a:latin typeface="Comic Sans MS"/>
              </a:rPr>
              <a:t>2. Design assignments and assessments through the use of a cell phone.</a:t>
            </a:r>
            <a:br>
              <a:rPr sz="2000"/>
            </a:br>
            <a:r>
              <a:rPr b="0" lang="en-US" sz="2000" spc="-1" strike="noStrike">
                <a:solidFill>
                  <a:srgbClr val="000000"/>
                </a:solidFill>
                <a:latin typeface="Comic Sans MS"/>
              </a:rPr>
              <a:t>3. Use existing technology in conjunction with the use of cell phones. </a:t>
            </a:r>
            <a:br>
              <a:rPr sz="2000"/>
            </a:b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Agenda</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142640"/>
            <a:ext cx="7696080" cy="4343400"/>
          </a:xfrm>
          <a:prstGeom prst="rect">
            <a:avLst/>
          </a:prstGeom>
          <a:noFill/>
          <a:ln w="0">
            <a:noFill/>
          </a:ln>
        </p:spPr>
        <p:txBody>
          <a:bodyPr lIns="90000" rIns="90000" tIns="46800" bIns="46800" anchor="t">
            <a:normAutofit fontScale="83000"/>
          </a:bodyPr>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a:t>
            </a:r>
            <a:endParaRPr b="0" lang="en-US" sz="1600" spc="-1" strike="noStrike">
              <a:solidFill>
                <a:srgbClr val="000000"/>
              </a:solidFill>
              <a:latin typeface="Comic Sans MS"/>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a:t>
            </a:r>
            <a:r>
              <a:rPr b="1" lang="en-US" sz="1600" spc="-1" strike="noStrike">
                <a:solidFill>
                  <a:srgbClr val="000000"/>
                </a:solidFill>
                <a:latin typeface="Comic Sans MS"/>
              </a:rPr>
              <a:t>Hour 1:</a:t>
            </a:r>
            <a:endParaRPr b="0" lang="en-US" sz="1600" spc="-1" strike="noStrike">
              <a:solidFill>
                <a:srgbClr val="000000"/>
              </a:solidFill>
              <a:latin typeface="Comic Sans MS"/>
            </a:endParaRPr>
          </a:p>
          <a:p>
            <a:pPr lvl="1" marL="61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1800" spc="-1" strike="noStrike">
                <a:solidFill>
                  <a:srgbClr val="000000"/>
                </a:solidFill>
                <a:latin typeface="Comic Sans MS"/>
              </a:rPr>
              <a:t>Pre-training</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ll Phones: The Next Educational Innovation Video</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ll phone distraction and fear convers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2:</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ources and Brainstorming </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a:solidFill>
                  <a:srgbClr val="000000"/>
                </a:solidFill>
                <a:latin typeface="Comic Sans MS"/>
              </a:rPr>
              <a:t>Presentation of possible uses for cell phones in the classroom</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eam brainstorming activity </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3:</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egin creation of authentic assessment</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4:</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a:solidFill>
                  <a:srgbClr val="000000"/>
                </a:solidFill>
                <a:latin typeface="Comic Sans MS"/>
              </a:rPr>
              <a:t>Continue Creation of authentic assessment</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5:</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ing</a:t>
            </a:r>
            <a:endParaRPr b="0" lang="en-US" sz="1800" spc="-1" strike="noStrike">
              <a:solidFill>
                <a:srgbClr val="000000"/>
              </a:solidFill>
              <a:latin typeface="Comic Sans MS"/>
            </a:endParaRPr>
          </a:p>
          <a:p>
            <a:pPr lvl="2" marL="9486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Group/team sharing of assessment</a:t>
            </a:r>
            <a:br>
              <a:rPr sz="1600"/>
            </a:br>
            <a:br>
              <a:rPr sz="900"/>
            </a:b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Pre-Training</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efore we can begin creating cell phone based lessons. We first must understand the history of cell phones in the classroom.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watch the following video so that we can begin to wrap our brains around the task at hand.</a:t>
            </a:r>
            <a:br>
              <a:rPr sz="2800"/>
            </a:b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ell Phones: The Next Educational Innovation</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is video was created by myself to show the evolution of cell phones in the educational setting and the difference in opinions that comes with their use, and how cell phones can and will be the next educational innovation. </a:t>
            </a:r>
            <a:endParaRPr b="0" lang="en-US" sz="24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video can be permanently found at </a:t>
            </a:r>
            <a:endParaRPr b="0" lang="en-US" sz="2400" spc="-1" strike="noStrike">
              <a:solidFill>
                <a:srgbClr val="000000"/>
              </a:solidFill>
              <a:latin typeface="Comic Sans MS"/>
            </a:endParaRPr>
          </a:p>
          <a:p>
            <a:pPr marL="335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a:p>
            <a:pPr marL="335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b200"/>
                </a:solidFill>
                <a:uFillTx/>
                <a:latin typeface="Comic Sans MS"/>
                <a:hlinkClick r:id="rId1"/>
              </a:rPr>
              <a:t>http://principlesofdistanceeducation.blogspot.com/</a:t>
            </a:r>
            <a:endParaRPr b="0" lang="en-US" sz="23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feel free to use and share the video as you see fi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Video Graphic Organizer</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lease use the following graphic organizer to follow along with the pre-training video or to use as a summary of the video. This graphic organizer is available for your use at</a:t>
            </a:r>
            <a:endParaRPr b="0" lang="en-US" sz="32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http://mywebspiration.com/view/336707a335d0</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6:16:09Z</dcterms:created>
  <dc:creator>Nobilis</dc:creator>
  <dc:description/>
  <dc:language>en-US</dc:language>
  <cp:lastModifiedBy>Nobilis</cp:lastModifiedBy>
  <dcterms:modified xsi:type="dcterms:W3CDTF">2010-02-15T21:19:06Z</dcterms:modified>
  <cp:revision>5</cp:revision>
  <dc:subject/>
  <dc:title>Cell Phones as Educational Learning Tools</dc:title>
</cp:coreProperties>
</file>