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54CA4-38C6-4A2C-A9DF-CE94AF999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DCDED-AF1A-464D-B930-93BEB1AFF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98C02-8C48-4A04-8899-484E54AC4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B2FC4-0128-4409-9E87-25A69FAE9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085BD-F9F0-40A3-9F8D-0EEB02FC4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BF0BC-BD0E-4D38-A5D7-E42244AA6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your favorite col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F0707-C246-4A45-BE6E-DE388B99F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BC956-AE11-4D80-9EE4-EE1A51D52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0FF2F-6024-44FD-A505-2BCDF7B4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ECB5F-57EB-4280-B5A3-27FB4B522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1326C-5EF6-4A74-BDAF-3234D44DB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D90F6-D662-42CC-A33D-5027105D7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DF8EE-BF30-441C-AE25-76CD4C624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00534-967A-46FB-8BD7-94E8A3933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C8741-767C-484E-B550-15B03AE75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097F1-2ADD-436B-90B6-EEBC2D09C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EEF7E-09B4-4C25-9278-1BCE7ACAF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25EF-3B5D-4979-B9F2-0C7FD442F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0AC0-54B5-4727-87AE-802326705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40ACB-B726-4DB2-9B42-994EBD7193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457200" y="1599840"/>
            <a:ext cx="8229600" cy="4770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what’s going on</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You’ll participate by sending a text message. If you don’t know how to do that, just ask your kids! Or have your neighbor help you figure it ou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dress their concern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is is a just standard rate text message, so it may be free for you, or up to twenty cents on some carriers if you do not have a text messaging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a demo or practice poll</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 example, a Free Text Poll like “Let’s Practice: Text in your first na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pic>
        <p:nvPicPr>
          <p:cNvPr id="56"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t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2" descr="\\.psf\Home\Desktop\mcp_poll_sample.png"/>
          <p:cNvPicPr/>
          <p:nvPr/>
        </p:nvPicPr>
        <p:blipFill>
          <a:blip r:embed="rId2"/>
          <a:stretch/>
        </p:blipFill>
        <p:spPr>
          <a:xfrm>
            <a:off x="289080" y="1235160"/>
            <a:ext cx="6848280" cy="4647960"/>
          </a:xfrm>
          <a:prstGeom prst="rect">
            <a:avLst/>
          </a:prstGeom>
          <a:ln w="0">
            <a:noFill/>
          </a:ln>
        </p:spPr>
      </p:pic>
      <p:sp>
        <p:nvSpPr>
          <p:cNvPr id="61"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62" name="Straight Connector 38"/>
          <p:cNvSpPr/>
          <p:nvPr/>
        </p:nvSpPr>
        <p:spPr>
          <a:xfrm>
            <a:off x="3733920" y="3722760"/>
            <a:ext cx="3403440" cy="13968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psf\Home\Desktop\mcp_poll_sample.png"/>
          <p:cNvPicPr/>
          <p:nvPr/>
        </p:nvPicPr>
        <p:blipFill>
          <a:blip r:embed="rId1"/>
          <a:stretch/>
        </p:blipFill>
        <p:spPr>
          <a:xfrm>
            <a:off x="289080" y="1235160"/>
            <a:ext cx="6848280" cy="4647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Straight Connector 38"/>
          <p:cNvSpPr/>
          <p:nvPr/>
        </p:nvSpPr>
        <p:spPr>
          <a:xfrm>
            <a:off x="3733920" y="3722760"/>
            <a:ext cx="3193920" cy="90792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4"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5"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6"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2" descr="\\.psf\Home\Desktop\mcp_poll_sample.png"/>
          <p:cNvPicPr/>
          <p:nvPr/>
        </p:nvPicPr>
        <p:blipFill>
          <a:blip r:embed="rId1"/>
          <a:stretch/>
        </p:blipFill>
        <p:spPr>
          <a:xfrm>
            <a:off x="289080" y="1235160"/>
            <a:ext cx="6848280" cy="4647960"/>
          </a:xfrm>
          <a:prstGeom prst="rect">
            <a:avLst/>
          </a:prstGeom>
          <a:ln w="0">
            <a:noFill/>
          </a:ln>
        </p:spPr>
      </p:pic>
      <p:sp>
        <p:nvSpPr>
          <p:cNvPr id="78"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9"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0" name="Picture 3" descr="\\.psf\Home\Desktop\twitter.png"/>
          <p:cNvPicPr/>
          <p:nvPr/>
        </p:nvPicPr>
        <p:blipFill>
          <a:blip r:embed="rId2"/>
          <a:stretch/>
        </p:blipFill>
        <p:spPr>
          <a:xfrm>
            <a:off x="4773600" y="3157560"/>
            <a:ext cx="4430880" cy="1311120"/>
          </a:xfrm>
          <a:prstGeom prst="rect">
            <a:avLst/>
          </a:prstGeom>
          <a:ln w="0">
            <a:noFill/>
          </a:ln>
        </p:spPr>
      </p:pic>
      <p:sp>
        <p:nvSpPr>
          <p:cNvPr id="81" name="Straight Connector 38"/>
          <p:cNvSpPr/>
          <p:nvPr/>
        </p:nvSpPr>
        <p:spPr>
          <a:xfrm flipV="1">
            <a:off x="3733920" y="3782520"/>
            <a:ext cx="1805040" cy="55116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3"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8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your favorite color?</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Nobilis</cp:lastModifiedBy>
  <dcterms:modified xsi:type="dcterms:W3CDTF">2010-02-15T21:08:15Z</dcterms:modified>
  <cp:revision>72</cp:revision>
  <dc:subject/>
  <dc:title>APPENDIX: Optional PE Instructional Cue Slides for Presenters</dc:title>
</cp:coreProperties>
</file>